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bserie06.wav" ContentType="audio/x-wav"/>
  <Override PartName="/ppt/media/highchime.wav" ContentType="audio/x-wav"/>
  <Override PartName="/ppt/media/image3.gif" ContentType="image/gif"/>
  <Override PartName="/ppt/media/projctor.wav" ContentType="audio/x-wav"/>
  <Override PartName="/ppt/media/image2.gif" ContentType="image/gif"/>
  <Override PartName="/ppt/media/zipdn102.wav" ContentType="audio/x-wav"/>
  <Override PartName="/ppt/media/fastcar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8F5-FC4D-4481-8C47-97A93586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0D2-EC5B-4FBD-80C5-629F70E9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834-135D-40AF-A5D8-7A022D34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0DA-AA6F-4161-B111-8B5B528B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0E9-69E6-4051-ABA8-B914BBFC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956-2B05-4A35-AFC5-7B63BBF4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5AC-E59E-43E9-98BE-D676DF8D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A85-C65A-4FCC-954F-E4355CF6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A93-3A33-4A59-BA26-93966F2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733-36C0-40C7-80FC-15890B7C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1BA-8770-49B4-8B68-5DDFEA88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EBC-6C1C-4D2D-BB7C-7E89F7B6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0EF8-A1AE-4A0A-8252-B78453B31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bserie06.wav"/><Relationship Id="rId3" Type="http://schemas.openxmlformats.org/officeDocument/2006/relationships/audio" Target="../media/highchim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zipdn102.wav"/><Relationship Id="rId3" Type="http://schemas.openxmlformats.org/officeDocument/2006/relationships/audio" Target="../media/fastca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zipdn102.wav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609480"/>
            <a:ext cx="5229360" cy="32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Graphing</a:t>
            </a:r>
            <a:endParaRPr b="1" lang="en-US" sz="72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Race</a:t>
            </a:r>
            <a:endParaRPr b="1" lang="en-US" sz="72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Preparation</a:t>
            </a:r>
            <a:endParaRPr b="1" lang="en-US" sz="72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3962520"/>
            <a:ext cx="457200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7400" y="685800"/>
            <a:ext cx="46958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Graphing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Races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419720" y="3733920"/>
            <a:ext cx="41148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car.wav"/>
                                        </p:tgtEl>
                                      </p:cMediaNode>
                                    </p:audio>
                                    <p:animMotion origin="layout" path="M 3.33333E-006 4.62428E-006 L 0.73333 4.62428E-006 E">
                                      <p:cBhvr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0880" y="1447920"/>
                <a:ext cx="80074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95320" y="1447920"/>
                <a:ext cx="697860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28480" y="1447920"/>
                <a:ext cx="77137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8000" y="1219320"/>
                <a:ext cx="903600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136520" y="1219320"/>
                <a:ext cx="697896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38280" y="1447920"/>
                <a:ext cx="749304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76280" y="1219320"/>
                <a:ext cx="83008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0" y="1360440"/>
                <a:ext cx="914400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900000" y="1360440"/>
                <a:ext cx="734220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33400" y="1360440"/>
                <a:ext cx="56739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14400" y="609480"/>
                <a:ext cx="7008840" cy="28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81040" y="576360"/>
                <a:ext cx="767556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47880" y="1343160"/>
                <a:ext cx="694188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80920" y="576360"/>
                <a:ext cx="707724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81040" y="576360"/>
                <a:ext cx="767880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014480" y="1343160"/>
                <a:ext cx="681048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0" y="1325520"/>
                <a:ext cx="914400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1120" y="1343160"/>
                <a:ext cx="747720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47840" y="576360"/>
                <a:ext cx="794376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14400" y="576360"/>
                <a:ext cx="7008840" cy="29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182680" y="1343160"/>
                <a:ext cx="447228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716120" y="1343160"/>
                <a:ext cx="540684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816200" y="1442880"/>
                <a:ext cx="520704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47880" y="1343160"/>
                <a:ext cx="69436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47640" y="1343160"/>
                <a:ext cx="75438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14360" y="574560"/>
                <a:ext cx="8012160" cy="29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80880" y="1343160"/>
                <a:ext cx="80787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14400" y="533520"/>
                <a:ext cx="7056360" cy="31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81120" y="1343160"/>
                <a:ext cx="747864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7400" y="685800"/>
            <a:ext cx="469584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Graphing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ookman Old Style"/>
              </a:rPr>
              <a:t>Homework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ookman Old Style"/>
              <a:ea typeface="Bookman Old Style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64832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43000" y="380880"/>
                <a:ext cx="38862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986360" y="380880"/>
                <a:ext cx="3809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98360" y="1219320"/>
                <a:ext cx="4496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997520" y="1219320"/>
                <a:ext cx="4146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997520" y="2057400"/>
                <a:ext cx="4146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10960" y="2057400"/>
                <a:ext cx="346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25360" y="3095640"/>
                <a:ext cx="3651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059440" y="2666880"/>
                <a:ext cx="375588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28600" y="4049640"/>
                <a:ext cx="344016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68920" y="4100400"/>
                <a:ext cx="326556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0" y="5700600"/>
                <a:ext cx="3265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782960" y="5700600"/>
                <a:ext cx="2738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46040" y="533520"/>
                <a:ext cx="7993080" cy="31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11:07:33Z</dcterms:created>
  <dc:creator>CCSS</dc:creator>
  <dc:description/>
  <dc:language>en-US</dc:language>
  <cp:lastModifiedBy>damon.skelton</cp:lastModifiedBy>
  <dcterms:modified xsi:type="dcterms:W3CDTF">2005-10-12T12:44:44Z</dcterms:modified>
  <cp:revision>6</cp:revision>
  <dc:subject/>
  <dc:title>PowerPoint Presentation</dc:title>
</cp:coreProperties>
</file>